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DE71-74F4-4B71-8BD1-60B8B881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D1A1-E630-4FDF-B8C5-3B5504F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9C25-51CD-4BCF-84EC-DA3B77C7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1F01-9A45-4A50-BA32-CB53F214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315A-8047-4536-81BA-F276085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1A86-8C20-424B-B21B-93E03E6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1A77-C244-4AC7-A22F-EF1C9ED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BE87-8545-48DE-950F-D03975A7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D621-41CE-4A78-9340-DE62380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6FC1-A8F8-4762-B145-01FCBB0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7196-599A-4FD4-93F4-6626A9D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AD7F-DC62-4F41-8E92-9779F7A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53A-BF84-4C3B-9BBF-4D87EFBDC9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Current Events Ukraine: Protests, Problems, and Puti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News Medi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Week 2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Sanda Universit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Eric Duff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estern/Russian divide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kraine/Russian Marri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22520"/>
            <a:ext cx="762012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’s military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9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urrent Protests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former/current President, Viktor Yanukovych , was seen as corrup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22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son of Ukrainian’s President “won” 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50 percen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 of all state contracts in January</a:t>
            </a:r>
            <a:br>
              <a:rPr sz="2000"/>
            </a:b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(http://www.politico.com/magazine/story/2014/02/statistics-that-explained-the-world-this-week-103783.html#ixzz2un6q5vCj)</a:t>
            </a: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average monthly salary in Ukraine is $450 a month (</a:t>
            </a:r>
            <a:r>
              <a:rPr b="0" lang="en-US" sz="800" spc="-1" strike="noStrike">
                <a:solidFill>
                  <a:srgbClr val="2f2b20"/>
                </a:solidFill>
                <a:latin typeface="Calibri"/>
              </a:rPr>
              <a:t>http://knlive.ctvnews.ca/a-mansion-fit-for-a-tyrant-leader-inside-yanukovych-s-home-of-sports-cars-and-ostriches-1.1701779) </a:t>
            </a: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former President’s  house had  a hovercraft, a golf course, a helicopter pad, a yacht, sports cars, private restaurant, private zoo and ostrich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tretch/>
        </p:blipFill>
        <p:spPr>
          <a:xfrm>
            <a:off x="512640" y="1828800"/>
            <a:ext cx="6942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1409760" y="1886040"/>
            <a:ext cx="57150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2209680" y="0"/>
            <a:ext cx="38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kraine and the E.U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krainians in the West of the country wanted to join the European Un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ut Russian influence and become more like Europ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sident agrees to sign agreement with the E.U. in late 2013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ever, instead the President  accepts over $15,000,000,000 from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itizens believe Russia is trying to buy influence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 late 2013 Ukrainian citizens start to protest against the government citing corruption , Russian influence in Ukraine, and closer ties to the E.U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1- RTV: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stermi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up d'ét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uel to the fi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ontaneo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vocateu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ass Outl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ief History of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verview of last 2 months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ideo- Protests in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n TV vide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invades Ukrain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ocabulary from vide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prehension ques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lass discuss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prehension Quest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any protestors were in the squar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0 B. 1,000 C. 1,000,000 D. unknow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id the president promise to the peaceful protester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. New government B. not to be touched by security C. money D. zoo anim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en did the protesters say that would leave the protest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when Ukraine joins the E.U.     B. when the president apologizes     C. when the president and the government steps down   D. Nev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es President Putin of Russia think of the protest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he supports them B. He thinks they are not spontaneous C. He believes it is about the E.U.   D. He doesn’t ca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ass Discussio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is the tone of the video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 you think the video is bia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video is from Russian T.V. does that change your opinion of what it say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hat has happened since Friday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esident of Ukraine left the capital and fled to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government of Ukraine  impeached him and sought to arrest hi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government formed a caretaker government and set new elections for May 25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mer President claims he is still the president and was forced out of Ukraine by thugs and a cou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e asks Russia for hel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there are two Presidents of Ukraine and the country is divided between the old President (and Russia) and the new government (the protesters and Western world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362240" y="2019240"/>
            <a:ext cx="5810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 26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ussian troops near border with Ukraine are put on alert and drilled for "combat readiness"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 27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Pro-Russian armed men seize government buildings in Crimea (Southern Ukrain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ebruary 28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- Soldiers with Russian license plates enter Crimea and take control of the airport and government building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 invades Ukrain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n parliament votes to allow Russian troops to enter Ukrain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oted stated that the Russian military could be deployed "on Ukrainian territory"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's Black Sea Fleet (Russian Navy) is in Crimea alread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has a sea base the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ports of 15,000 Russian troops have joined Russia’s other soldiers in Crim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wo Russian warships are in the water near Crim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5257800" y="4243320"/>
            <a:ext cx="2809800" cy="16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838080" y="42148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rime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imea used to be part of Russ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954 became part of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rrently 59% of population is ethnic Russian while only 25% of the population is Ukraini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365120" y="3505320"/>
            <a:ext cx="594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299880" y="1295280"/>
            <a:ext cx="759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rime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 is Russia invading Ukraine? Or just making sure its soldiers, citizens, and supporters are saf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arge part of the East of Ukraine want closer ties to Russia, not the E.U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part of the country still supports the former President and did not join in the protes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372960" y="304920"/>
            <a:ext cx="77803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2: Friday PB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time did the soldiers arrive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pm B. 11PM  C. 12 AM D. 10 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happened to the air space over Crime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it was open   B. it was closed   C. it remained the same D. not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country did Russia go to war with in 2008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Ukraine B. China C. Georgia D. Afghanist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id Secretary Kerry speak to the Russian Foreign Minister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on TV  B. in a speech  C. email   D. Pho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y did the former President say he left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afraid he would die B. because the U.S.A. told him C. to move to Russia D. he wanted a vac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3: Crimea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ick ou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rm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e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ver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tertwin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ill arou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stening Comprehensio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any armed men are in the building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00 B. 60 C. 1,000 D. 600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oes fully armed mean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you have two arms  B. you can’t see your arm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You have a lot of guns on you  D. you are in the militar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o the Crimean people want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to support the government  B. join the E. U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Join Russia   D. Have a new gover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y can’t the new Ukraine government stop what is happening in Crime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4 vocabula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f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sca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ilitary convo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uthoriz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row down the gauntl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terren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deo 4 Listening comprehen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long after Obama’s speech did Russia authorize troops into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half a day B. one week C. 24 hours D. at the same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did Russia do in response to Obama’s speech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withdrew its U.S. ambassador B. sent Obama a lett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called Obama   D. not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much aid is the U.S. and the E.U. offering to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15 MILLION B. 15 BILLION c. 1 BILLION D. 150 MILL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at is one response the U.S. could take to stop Russia in Ukrain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. sanctions B. Refuse to attend g-8 Summit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. military action D. all of the above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ferenc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bbc.com/news/world-europe-18010123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aljazeera.com/news/europe/2014/03/timeline-ukraine-political-crisis-201431143722854652.htm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ttp://www.bbc.com/news/world-europe-26388057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omewor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atch the video about Nazi hunters posted on the website. You are expected to watch from 8:28 to 16:41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d 3-5 comprehension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questioned will be given to another student next cla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rief History of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21- The Soviet Union (USSR) occupies 2/3 of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30s- Millions of Ukrainians die due to policies, deportations, and executions ordered by Joseph Stalin (leader of the USSR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uring World War II, Ukraine is occupied by the Nazis. Millions of Ukrainians d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fter World War II, Western Ukraine is taken by the USS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kraine becomes a satellite state of the Soviet Un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86 Chernobyl nuclear power station explod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rief History of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90- Student protests help bring down the government*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991- After the fall of the Berlin Wall and the collapse of the USSR, 90%  of Ukrainians vote for independence in a nationwide referendum in Decemb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3" descr="is (2).jpg"/>
          <p:cNvPicPr/>
          <p:nvPr/>
        </p:nvPicPr>
        <p:blipFill>
          <a:blip r:embed="rId1"/>
          <a:stretch/>
        </p:blipFill>
        <p:spPr>
          <a:xfrm>
            <a:off x="3048120" y="3740040"/>
            <a:ext cx="2359080" cy="311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s (1).jpg"/>
          <p:cNvPicPr/>
          <p:nvPr/>
        </p:nvPicPr>
        <p:blipFill>
          <a:blip r:embed="rId2"/>
          <a:stretch/>
        </p:blipFill>
        <p:spPr>
          <a:xfrm>
            <a:off x="5257800" y="2743200"/>
            <a:ext cx="2948040" cy="227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s.jpg"/>
          <p:cNvPicPr/>
          <p:nvPr/>
        </p:nvPicPr>
        <p:blipFill>
          <a:blip r:embed="rId3"/>
          <a:stretch/>
        </p:blipFill>
        <p:spPr>
          <a:xfrm>
            <a:off x="152280" y="3124080"/>
            <a:ext cx="2925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range Revolu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ssiv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eaceful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tests in 2004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ue to election frau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kraine holds a new vote and elects a new presid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eaceful revolution brings a feeling of hope, freedom, and democracy to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11400" y="497196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592600" y="5038560"/>
            <a:ext cx="2676600" cy="17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152280" y="5067360"/>
            <a:ext cx="2886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ussia’s involvement in Ukra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nce Ukraine’s independence, Russia has  maintained influence and power inside Ukra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ccasionally Russia stops gas going into Ukra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ussia wants Ukraine to remain outside the E.U. and American influen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large percentage of Ukrainian’s speak Russian and hold positive views of Russia and Put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n the Last 100 year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ssia has remained influential in Ukraine and views Ukraine as important to Russia’s fut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ew Glob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oll, 2009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36060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189000" y="304920"/>
            <a:ext cx="8045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07:28:39Z</dcterms:created>
  <dc:creator>eduffy25</dc:creator>
  <dc:description/>
  <dc:language>en-US</dc:language>
  <cp:lastModifiedBy>teacher</cp:lastModifiedBy>
  <dcterms:modified xsi:type="dcterms:W3CDTF">2014-03-03T04:28:45Z</dcterms:modified>
  <cp:revision>29</cp:revision>
  <dc:subject/>
  <dc:title>Current Events Ukraine: Protests, Problems, and Putin</dc:title>
</cp:coreProperties>
</file>